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106C6-61FA-42DE-BEBD-8FF1FD2E6A20}" type="datetime">
              <a:rPr b="0" lang="en-US" sz="1200" spc="-1" strike="noStrike">
                <a:solidFill>
                  <a:srgbClr val="000000"/>
                </a:solidFill>
                <a:latin typeface="Arial"/>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492DF-4012-4075-872A-C199413B6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81507-D5C8-4652-A01B-FBB694C06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FF10D-0DAB-4B52-94FE-23D11343F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52BDA-DB0C-4124-9BB3-BF3AEEE29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77203-C33E-490A-AFF7-C53983132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83F77-6901-4201-B56A-6560EEDB8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C0CAD-40A7-469B-AD5C-49C730D69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C888E-E593-48CC-A9E3-8396C2F56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A7030-B9F2-4B6C-99F4-ED1914065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03931-F6E4-45EC-A572-DD772935D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3B5E2-EC32-47E1-A484-2241173F6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D8583-C810-44AF-838A-DBC12CDE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64172-F62C-4A6D-9B38-907B0814E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88284-1062-400C-8195-CBFA5BEA1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DC3AD-C875-4811-918C-AE32F014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36A9D-16E8-41FF-994F-CEC144C76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63B72-DF17-4B1F-9CF7-1D07D756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BE35-B415-4D40-AFA1-0C19C824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CB84-2FFD-4D48-BF41-75929BA6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D210-E620-4F00-88F0-3BC96101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EFDE3-532D-417E-BCA8-717DF21C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817E-DA91-4A81-8C3F-40E6D41FD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8F3B5-BEAF-4F98-9A57-80C85D4A46DA}"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58ABA-DA2F-4C6D-A361-E468EFF433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